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C92-5136-4BDB-9AD0-DC024090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B3F-DC25-4153-99BE-AFE2CFC8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2EC-17BF-4454-B6CE-7D71670D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88B-AE74-41D0-A7F9-76FA6FEB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DFF6-FD76-4B0D-88EC-78EABB38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09B-AE9C-47F3-AFFF-17ABC183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2475-82C8-4374-8C27-3253EED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7D94-6B67-43EE-832A-68DDC4E4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234B-1717-40F0-9FE7-B5E6C3DE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BEE4-0AFB-4ABA-9B47-85785067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2A1E-9C72-475A-9E40-AFFE8EB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4F7-EC08-4AA9-81FF-157AC10B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4A91-56B8-40AA-8831-EBA144F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7093-26C5-4FC7-9790-41221EE3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198A-44C3-48E9-A95E-F5F0447D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32F1-96A6-4C18-B07E-4758DEB5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4DD8-E51F-4859-ABCF-8CC24F11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1DB8-2021-4BDA-9F72-99339184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D90C-6C57-4999-B944-BE0CBD20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8E4E-9013-4C38-8E2F-AFF87C4D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9642-D491-4871-9857-902DAE38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B657-AD7E-4570-9E1B-A5CD011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AA2-C0BC-4F98-A269-FAD73C7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A465-A853-41C9-8A5F-CB5D7149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E976-9A3F-4E13-A75C-5B713B75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2B93-2054-4433-AAB6-80021CD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7908-2262-445E-9856-CAEDDA8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5B54-3A48-46D6-9EA9-00ACEF9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94FC-CFA9-4489-83F6-70E1B262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A612-98B6-4751-97D4-183D9448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D23A-BF82-4824-AEB9-7D4B5A18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EC59-4CF5-421C-AA19-3405853C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5074-15B9-4325-A825-56411CA5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510-FBFE-4CFE-872B-DBE83A37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213B-B490-418B-9222-2468A93A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34FE-1317-44BA-8E2E-60844F7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D7C8-B36E-49BA-818B-4501B4B6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4CFE-FA9D-4073-9346-F5A1FB0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91FF-95EE-4D8F-A5C3-3A4A6BC3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F20D-FBB1-438F-8015-E543C5CA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C546-000D-40B7-AB89-61FEBDAE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CD27-BB80-4FCD-9159-CEBF8676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D50A-9329-44A6-A553-38801E53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038A-A8C8-4B41-B2A0-5B3555CC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8A7-C2BF-425B-9D2B-A14C5AF8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D20C-F5C7-469D-88A5-2F0337D5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9EF8-59F8-41E9-8A7B-36F80A5E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E0E6-6472-48F3-A2C6-6D74714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6F5F-704A-4330-93D4-4EC4F7BB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F0F4F-CCB4-4EC9-BBC2-81E5C5F4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FA8C-6821-41E9-BE12-227C9D3A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911E-E606-4AB6-BF39-6319668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2264E-B940-4938-9147-1635BD5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E7BB-48A4-4014-81BA-6AAFD102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9E240-70D3-4151-BB63-1A7020F2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980-15AB-4B99-84A8-06D4FD0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F60B-D4F9-4598-B7A3-8675125A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797A-ACA0-4820-9D27-B9372C97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3F9B-1A56-460E-9519-7EAE602C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ABBD-D832-491A-A7C7-60A3B2C1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A033-74FB-4E8D-8E9F-5377AF3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4F557-9782-4E99-920D-64848478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C3668-70BF-45BF-BBC6-178718A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C8A5E-BDD8-407E-B2B1-539D4333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04B62-006F-493A-9844-DB4FE25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C42E-ED38-4F78-B299-2F71A1C8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085-BA44-45B0-9D8D-C6A2839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767C-DF9F-4077-8DA4-D2EB2687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7AB62-05E0-4151-B88B-5D80E3F9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E085A-E878-45C0-9E32-045212B3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04F1A-9D03-4E5D-B093-D17514A9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8AE73-5FF9-4D38-9E9E-4DAA6DC6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BF73-0C98-47DD-9F8C-367BAD0C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D1DAD-C6CA-4F7D-9799-AFB1162A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0F624-7368-4806-B009-D20D6ECD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EDA12-1773-40A7-8D2E-EED8A9B4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7F03F-20FB-4FA3-8764-75EC8F58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A1B-D596-41FB-BE64-70C3A03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B0C5E-8C70-4C63-B964-01BF680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E960D-6ED3-4A48-8DCB-1DBF5C88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73692-47D4-462F-9B41-DF928B95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CFF02-A0EB-4EFC-B7A3-6387F5B9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6045-AB32-4FE7-98BD-38148BAC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73782-1100-4099-9359-C6A98C3B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3900-05EF-45EF-9697-A8284A95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769C-A16F-4393-AFC4-90E1E5F3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4927-6619-4A2E-9376-4CFE277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E5F2E-0DD5-4E25-B9B0-5AEB2730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774-9D50-4F1B-8FCC-C0AAFD75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BFBD8-5C34-42A6-AF5B-F6C9CC17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74924-BDB4-40E6-8434-02735D44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1789C-025F-461B-95BD-51B0CD5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CB54-EECE-4AEC-8E8B-A25E7BE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29DC-BBD5-4FF3-BDEB-B1CCE11C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2EC9A-D9DD-4784-97CD-2C7F2AF2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9B25-7197-4262-BDEA-F8314F98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AE37-F597-4DB1-82C2-2565F159D8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18BD-9CC8-49D2-BC98-392139B520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AA1-BB90-4F1F-B7C5-29A1FDF00B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F469-4BCB-4855-9DD3-6D413686AF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8AE-56BC-4221-9AA8-DEA6A7C8F2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FDBF-BA02-4391-8AC7-FD29CD2EB7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140E-B934-4155-8449-903197548A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7FA9-18C2-4EF8-985F-81E6FF6079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6480" y="2120760"/>
            <a:ext cx="9156960" cy="14875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0492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200 </a:t>
            </a:r>
            <a:r>
              <a:rPr b="1" lang="en-US" sz="2700" spc="-1" strike="noStrike">
                <a:solidFill>
                  <a:srgbClr val="006699"/>
                </a:solidFill>
                <a:latin typeface="Lucida Sans Unicode"/>
              </a:rPr>
              <a:t>ТРАЖЕНЕ КАРАКТЕРИСТИК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9210</a:t>
            </a:r>
            <a:r>
              <a:rPr b="0" lang="sr-Latn-CS" sz="27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ОПШ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9300 </a:t>
            </a: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КОНТРОЛНА ИСПИТИВАЊА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b8803"/>
                </a:solidFill>
                <a:latin typeface="Lucida Sans Unicode"/>
              </a:rPr>
              <a:t>29310</a:t>
            </a:r>
            <a:r>
              <a:rPr b="0" lang="sr-Latn-CS" sz="23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eb8803"/>
                </a:solidFill>
                <a:latin typeface="Lucida Sans Unicode"/>
              </a:rPr>
              <a:t>ОПШТ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32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ВРЕМЕ ВЕЗИВАЊ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9330</a:t>
            </a:r>
            <a:r>
              <a:rPr b="0" lang="sr-Latn-CS" sz="2700" spc="-1" strike="noStrike">
                <a:solidFill>
                  <a:srgbClr val="9900cc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ПРОМЕНА ЗАПРЕМИ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340</a:t>
            </a:r>
            <a:r>
              <a:rPr b="0" lang="sr-Latn-CS" sz="27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ПРИТИСНА ЧВРСТОЋ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9350</a:t>
            </a:r>
            <a:r>
              <a:rPr b="0" lang="sr-Latn-CS" sz="27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ИЗДВАЈАЊЕ ВОД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36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МОЋ РАЗЛИВАЊА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29361ОПШТЕ 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29362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Lucida Sans Unicode"/>
              </a:rPr>
              <a:t>ТРАЖЕНА МЕТОДА ЗА ОДРЕЂИВАЊЕ МОЋИ РАЗЛИВАЊ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400 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ИЗВОЂЕ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9600 ГАРАН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9700 ОБРАЧУН  И  ПЛАЋ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99"/>
                </a:solidFill>
                <a:latin typeface="Lucida Sans Unicode"/>
              </a:rPr>
              <a:t>29800 </a:t>
            </a:r>
            <a:r>
              <a:rPr b="1" lang="en-US" sz="2700" spc="-1" strike="noStrike">
                <a:solidFill>
                  <a:srgbClr val="006699"/>
                </a:solidFill>
                <a:latin typeface="Lucida Sans Unicode"/>
              </a:rPr>
              <a:t>РЕФЕРЕНТНИ СТАНДАРД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6699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9200</a:t>
            </a:r>
            <a:r>
              <a:rPr b="0" lang="sr-Latn-CS" sz="26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sr-CS" sz="2600" spc="-1" strike="noStrike">
                <a:solidFill>
                  <a:srgbClr val="006699"/>
                </a:solidFill>
                <a:latin typeface="Lucida Sans Unicode"/>
              </a:rPr>
              <a:t>ТРАЖЕНЕ КАРАКТЕРИСТИК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29210</a:t>
            </a: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ОПШТ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У Пројекту санације / реконструкције моста Газела применити подливке са великом моћи разливања  - 600 мм  при висини подливке од 40  мм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Тражена притисна чврстоћа после 24 часа:      минимум 30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MP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Тражена притисна чврстоћа после 28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dana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:      минимум 50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MP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	</a:t>
            </a:r>
            <a:r>
              <a:rPr b="0" lang="sr-CS" sz="2600" spc="-1" strike="noStrike">
                <a:solidFill>
                  <a:srgbClr val="3333ff"/>
                </a:solidFill>
                <a:latin typeface="Lucida Sans Unicode"/>
              </a:rPr>
              <a:t>Подливка, након очвршћавања, мора да задржи, као минимум, запремину коју је имала приликом уградње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0" y="490680"/>
            <a:ext cx="915516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C.K6.020/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Vruće valjani čelici. Betonski čelici. </a:t>
            </a:r>
            <a:r>
              <a:rPr b="0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ehnički uslovi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RPS EN  10080 /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PS C.K6.120/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udevaljani čelici. Betonski čelici.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Oblik i mere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 10080 /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Arial"/>
              </a:rPr>
              <a:t>SRPS U.M 1.091/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7eea"/>
                </a:solidFill>
                <a:latin typeface="Arial"/>
              </a:rPr>
              <a:t>Građevinske zavarene armature mreže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10080 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58d01"/>
                </a:solidFill>
                <a:latin typeface="Arial"/>
              </a:rPr>
              <a:t>SRPS U.M 1.092/19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8d01"/>
                </a:solidFill>
                <a:latin typeface="Arial"/>
              </a:rPr>
              <a:t>Bi-armatura. </a:t>
            </a:r>
            <a:r>
              <a:rPr b="0" lang="es-CR" sz="2400" spc="-1" strike="noStrike">
                <a:solidFill>
                  <a:srgbClr val="c58d01"/>
                </a:solidFill>
                <a:latin typeface="Arial"/>
              </a:rPr>
              <a:t>Tehnički uslovi,   zamenjen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CR" sz="2400" spc="-1" strike="noStrike">
                <a:solidFill>
                  <a:srgbClr val="ff0000"/>
                </a:solidFill>
                <a:latin typeface="Arial"/>
              </a:rPr>
              <a:t>SRPS EN 10080 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64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0" y="562680"/>
            <a:ext cx="9144000" cy="631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1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rivremena radna oprema - Deo 1: Skele - Zahtevi za izvođenje i projekt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2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rivremena radna oprema - Deo 2: Informacije o materija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RPS EN 12811-3, (en) 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ivremena radna oprema - Deo 3: Ispitivanje opterećen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SRPS ENV 13670-1 : 2010</a:t>
            </a:r>
            <a:r>
              <a:rPr b="1" lang="sr-Latn-C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2b4a76"/>
                </a:solidFill>
                <a:latin typeface="Arial"/>
                <a:ea typeface="Times New Roman"/>
              </a:rPr>
              <a:t> na engles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157a"/>
                </a:solidFill>
                <a:latin typeface="Arial"/>
                <a:ea typeface="Times New Roman"/>
              </a:rPr>
              <a:t>Izvođenje betonskih konstrukcija – Deo 1: Op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EN 1090-1 i EN 1090-2 </a:t>
            </a:r>
            <a:r>
              <a:rPr b="1" lang="sr-Latn-CS" sz="2400" spc="-1" strike="noStrike">
                <a:solidFill>
                  <a:srgbClr val="2b4a76"/>
                </a:solidFill>
                <a:latin typeface="Arial"/>
                <a:ea typeface="Times New Roman"/>
              </a:rPr>
              <a:t>na engles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Izvo</a:t>
            </a:r>
            <a:r>
              <a:rPr b="1" lang="sr-Latn-CS" sz="2400" spc="-1" strike="noStrike">
                <a:solidFill>
                  <a:srgbClr val="5fa326"/>
                </a:solidFill>
                <a:latin typeface="Arial"/>
                <a:ea typeface="Times New Roman"/>
              </a:rPr>
              <a:t>đenje čeličnih ko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1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609480"/>
            <a:ext cx="76932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eb8803"/>
                </a:solidFill>
                <a:latin typeface="Lucida Sans Unicode"/>
              </a:rPr>
              <a:t>Kod pravilno organizovane projektne dokumentacije, Tehničke specifikacije treba da predhode predmeru i predračunu radova. Pritom, mora postojati jasna veza između ova tri dela projekta, tj. nomenklatura koja je korišćena kod izrade tehničkih specifikacija treba da se pojavi ikod predmerskih odnosno predračunskih pozicija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228240"/>
            <a:ext cx="8229600" cy="635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sr-Latn-CS" sz="2400" spc="-1" strike="noStrike">
                <a:solidFill>
                  <a:srgbClr val="002060"/>
                </a:solidFill>
                <a:latin typeface="Lucida Sans Unicode"/>
              </a:rPr>
              <a:t>Svaka pozicija, opisana u tehničkim specifikacijama mora da ima jednoznačno definisane sledeće element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Rad na koji se odnosi pozic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Tražena (uslovljena) tehnologija izvodjenja predmetnog ra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Potencijalni rizici po bezbednost i zdravlje ljudi na radu i potrebne preventivne me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Potencijalni rizici po zaštitu životne sredine i potrebne preventivne me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Način obračuna  (napr. m2) – </a:t>
            </a:r>
            <a:r>
              <a:rPr b="0" lang="sr-Latn-CS" sz="2400" spc="-1" strike="noStrike">
                <a:solidFill>
                  <a:srgbClr val="feb80a"/>
                </a:solidFill>
                <a:latin typeface="Lucida Sans Unicode"/>
              </a:rPr>
              <a:t>svi elementi koji su obuhvaćeni obračunskom jedinicom moraju biti taksativno navedeni (napr. nabavka materijala, transport, gradilišna manipulacija, ugradnja, konačna ispitivanja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Garan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Lucida Sans Unicode"/>
              </a:rPr>
              <a:t>Svaki element obuhvaćen u tački 5) mora biti povezan sa odgovarajućim standardom (ako postoji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655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Lucida Sans Unicode"/>
              </a:rPr>
              <a:t>MASTERFORMAT ™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Lucida Sans Unicode"/>
              </a:rPr>
              <a:t>2004 EDITION NUMBERS &amp; TITL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601720" y="310788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STERFORMAT 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EDITION NUMBERS &amp;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504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20000 </a:t>
            </a:r>
            <a:r>
              <a:rPr b="0" lang="en-US" sz="3600" spc="-1" strike="noStrike">
                <a:solidFill>
                  <a:srgbClr val="ff0000"/>
                </a:solidFill>
                <a:latin typeface="Lucida Sans Unicode"/>
              </a:rPr>
              <a:t>  </a:t>
            </a: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БЕТОНСКИ РАДОВИ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20010</a:t>
            </a:r>
            <a:r>
              <a:rPr b="0" lang="sr-Latn-CS" sz="2700" spc="-1" strike="noStrike">
                <a:solidFill>
                  <a:srgbClr val="9900cc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ОПШТЕ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5b6f"/>
                </a:solidFill>
                <a:latin typeface="Lucida Sans Unicode"/>
              </a:rPr>
              <a:t>20060</a:t>
            </a:r>
            <a:r>
              <a:rPr b="0" lang="sr-Latn-CS" sz="27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e5b6f"/>
                </a:solidFill>
                <a:latin typeface="Lucida Sans Unicode"/>
              </a:rPr>
              <a:t>ГАРАНЦИЈА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20100 СКЕЛЕ И ОПЛА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21000</a:t>
            </a:r>
            <a:r>
              <a:rPr b="0" lang="en-US" sz="2700" spc="-1" strike="noStrike">
                <a:solidFill>
                  <a:srgbClr val="eb8803"/>
                </a:solidFill>
                <a:latin typeface="Lucida Sans Unicode"/>
              </a:rPr>
              <a:t>  </a:t>
            </a:r>
            <a:r>
              <a:rPr b="1" lang="en-US" sz="2700" spc="-1" strike="noStrike">
                <a:solidFill>
                  <a:srgbClr val="eb8803"/>
                </a:solidFill>
                <a:latin typeface="Lucida Sans Unicode"/>
              </a:rPr>
              <a:t>АРМАТУРА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157a"/>
                </a:solidFill>
                <a:latin typeface="Lucida Sans Unicode"/>
              </a:rPr>
              <a:t>21200 ОБРАЧУН И ПЛАЋАЊЕ</a:t>
            </a:r>
            <a:r>
              <a:rPr b="1" lang="en-US" sz="2700" spc="-1" strike="noStrike">
                <a:solidFill>
                  <a:srgbClr val="ea157a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ea157a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121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КЛАСИЧНА (ЧЕЛИЧНА) АРМАТУРА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ff"/>
                </a:solidFill>
                <a:latin typeface="Lucida Sans Unicode"/>
              </a:rPr>
              <a:t>21220 МИКРО  АРМАТУРА ОД  СТАКЛЕНИХ / ПОЛИПРОПИЛЕНСКИХ  ВЛАК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cc"/>
                </a:solidFill>
                <a:latin typeface="Lucida Sans Unicode"/>
              </a:rPr>
              <a:t>29000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  </a:t>
            </a:r>
            <a:r>
              <a:rPr b="1" lang="en-US" sz="2700" spc="-1" strike="noStrike">
                <a:solidFill>
                  <a:srgbClr val="9900cc"/>
                </a:solidFill>
                <a:latin typeface="Lucida Sans Unicode"/>
              </a:rPr>
              <a:t>ПОДЛИВКЕ </a:t>
            </a:r>
            <a:r>
              <a:rPr b="0" lang="en-US" sz="2700" spc="-1" strike="noStrike">
                <a:solidFill>
                  <a:srgbClr val="9900cc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29010</a:t>
            </a:r>
            <a:r>
              <a:rPr b="0" lang="sr-Latn-CS" sz="27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ОПШТЕ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29030</a:t>
            </a:r>
            <a:r>
              <a:rPr b="0" lang="sr-Latn-CS" sz="2700" spc="-1" strike="noStrike">
                <a:solidFill>
                  <a:srgbClr val="0099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УСЛОВ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29100 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ВРСТЕ ПОДЛИВКИ</a:t>
            </a:r>
            <a:r>
              <a:rPr b="0" lang="en-US" sz="26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29110</a:t>
            </a:r>
            <a:r>
              <a:rPr b="0" lang="sr-Latn-CS" sz="26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СУВЕ ПОДЛИВКЕ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8803"/>
                </a:solidFill>
                <a:latin typeface="Lucida Sans Unicode"/>
              </a:rPr>
              <a:t>29120</a:t>
            </a:r>
            <a:r>
              <a:rPr b="0" lang="sr-Latn-CS" sz="2600" spc="-1" strike="noStrike">
                <a:solidFill>
                  <a:srgbClr val="eb8803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eb8803"/>
                </a:solidFill>
                <a:latin typeface="Lucida Sans Unicode"/>
              </a:rPr>
              <a:t>ПОДЛИВКЕ СА АЛУМИНИЈУМСКИМ ОКСИДОМ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29130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ПОДЛИВКЕ СА АГРЕГАТОМ ОД ГВОЖЂА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29140</a:t>
            </a:r>
            <a:r>
              <a:rPr b="0" lang="sr-Latn-CS" sz="2600" spc="-1" strike="noStrike">
                <a:solidFill>
                  <a:srgbClr val="3333f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3333ff"/>
                </a:solidFill>
                <a:latin typeface="Lucida Sans Unicode"/>
              </a:rPr>
              <a:t>ПОДЛИВКЕ СА ВАЗДУШНИМ МЕХУРИЋИМА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cc"/>
                </a:solidFill>
                <a:latin typeface="Lucida Sans Unicode"/>
              </a:rPr>
              <a:t>29150ПОДЛИВКЕ СА ЕКСПАНЗИОНИМ ЦЕМЕНТИМА 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29160</a:t>
            </a:r>
            <a:r>
              <a:rPr b="0" lang="sr-Latn-CS" sz="2600" spc="-1" strike="noStrike">
                <a:solidFill>
                  <a:srgbClr val="4e5b6f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4e5b6f"/>
                </a:solidFill>
                <a:latin typeface="Lucida Sans Unicode"/>
              </a:rPr>
              <a:t>ЕПОКСИ ПОДЛИВКЕ 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29180</a:t>
            </a:r>
            <a:r>
              <a:rPr b="0" lang="sr-Latn-CS" sz="2600" spc="-1" strike="noStrike">
                <a:solidFill>
                  <a:srgbClr val="006699"/>
                </a:solidFill>
                <a:latin typeface="Lucida Sans Unicode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Lucida Sans Unicode"/>
              </a:rPr>
              <a:t>ФАБРИЧКИ ПРИПРЕМЉЕНЕ МЕШАВИНЕ ЗА ПОДЛИВКЕ СА ХИДРАУЛИЧКИМ ЦЕМЕНТИМА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8:58:06Z</dcterms:created>
  <dc:creator>C&amp;N</dc:creator>
  <dc:description/>
  <dc:language>en-US</dc:language>
  <cp:lastModifiedBy>Korisnik</cp:lastModifiedBy>
  <dcterms:modified xsi:type="dcterms:W3CDTF">2012-04-22T16:06:02Z</dcterms:modified>
  <cp:revision>12</cp:revision>
  <dc:subject/>
  <dc:title>   TEHNIČKE SPECIFIKACIJE</dc:title>
</cp:coreProperties>
</file>